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737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8821-25F1-4214-8736-AA0ED063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A4B-B2B4-47FE-9A5D-EFA80DE6E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292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88DC-EE49-40E3-9CAD-1184BFDC5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29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E29-2CEA-4864-8ADE-511CC93D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392-3D10-4FDA-A948-F0F589EB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8EE-CFAE-41FD-95BD-E7727A40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F69-A5D5-4606-A26C-181DB2DC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7D8-577F-4E7F-A400-FF1B4505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F94-492E-4C4D-8B24-CF1517C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B1C-2C9D-4BAE-BB3A-E869DD69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3AB-395F-44AB-9960-E5BCB3E1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A5F-C572-4935-B96D-1D55A073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403-F6B1-4C9A-9B25-56BBAFDA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0B2-2129-49B6-ADC4-BBE6CF9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95E-9145-44E2-BA50-55E1435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F9BF-95C3-4704-BE6A-FB2B40E72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2133720"/>
            <a:ext cx="8237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CT2013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I Disclosure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ame of First Author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49360" y="4560480"/>
            <a:ext cx="8167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uthors have no financial conflicts of interest to disclose concerning the 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555480" y="322200"/>
            <a:ext cx="814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use the sample slide template to disclose COI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Form 1-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re are no conflicts of interest to dis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giving a presentation at CCT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4"/>
          <p:cNvSpPr/>
          <p:nvPr/>
        </p:nvSpPr>
        <p:spPr>
          <a:xfrm>
            <a:off x="289080" y="1844640"/>
            <a:ext cx="8642160" cy="458640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図 6" descr="CCT logo.jpg"/>
          <p:cNvPicPr/>
          <p:nvPr/>
        </p:nvPicPr>
        <p:blipFill>
          <a:blip r:embed="rId1"/>
          <a:stretch/>
        </p:blipFill>
        <p:spPr>
          <a:xfrm>
            <a:off x="1295280" y="2146320"/>
            <a:ext cx="1447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1040" y="310680"/>
            <a:ext cx="7837200" cy="23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CT201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I Disclosure</a:t>
            </a:r>
            <a:br>
              <a:rPr sz="3600"/>
            </a:b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me of First Author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17240" y="2998800"/>
            <a:ext cx="835812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Form 1-B when you have conflicts of interest to disclose concerning a presentation. Give the name of commercial entity involv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①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 fees: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　　　　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　　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②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ck ownership/profit: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③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ent fees: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　　　　　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④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uneration for lecture: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　　　　　　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⑤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uscript fees: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○○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eutical compa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⑥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st research/joint research funds: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○○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eutical compa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⑦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holarship fund: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○○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eutical compa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⑧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filiation with Endowed Department: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es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○○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euticals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⑨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ther remuneration such as gifts:</a:t>
            </a:r>
            <a:r>
              <a:rPr b="1" lang="ja-JP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"/>
          <p:cNvSpPr/>
          <p:nvPr/>
        </p:nvSpPr>
        <p:spPr>
          <a:xfrm>
            <a:off x="241200" y="0"/>
            <a:ext cx="8704440" cy="665964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角丸四角形 6"/>
          <p:cNvSpPr/>
          <p:nvPr/>
        </p:nvSpPr>
        <p:spPr>
          <a:xfrm>
            <a:off x="4933800" y="3502080"/>
            <a:ext cx="3916440" cy="8460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f “yes”, give the name of company/organization. There is no need to disclose the amou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図 7" descr="CCT logo.jpg"/>
          <p:cNvPicPr/>
          <p:nvPr/>
        </p:nvPicPr>
        <p:blipFill>
          <a:blip r:embed="rId1"/>
          <a:stretch/>
        </p:blipFill>
        <p:spPr>
          <a:xfrm>
            <a:off x="1479600" y="433440"/>
            <a:ext cx="1420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7:39:07Z</dcterms:created>
  <dc:creator>Travis Alexander Yano</dc:creator>
  <dc:description/>
  <dc:language>en-US</dc:language>
  <cp:lastModifiedBy>takagi</cp:lastModifiedBy>
  <dcterms:modified xsi:type="dcterms:W3CDTF">2013-10-10T04:21:30Z</dcterms:modified>
  <cp:revision>106</cp:revision>
  <dc:subject/>
  <dc:title>PowerPoint Presentation</dc:title>
</cp:coreProperties>
</file>