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44F-F964-42E9-9F08-6C79EF4C86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63F4-F5D1-4151-A9E4-442C01B8F01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80E-3C23-43F6-BCCE-A98CDFC6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D44-9B21-4A82-B7F6-4CFB8C22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099-0156-47B6-80A2-48517ED1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E02-3F30-49C9-AC64-21EC9C3E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92F-8C0B-4B39-A905-48FF08EE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474-DEAD-4327-9C31-C0553E7C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262-5790-4A56-A55B-68F2F904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A17-0910-4B36-9659-D6FA51E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E8E-C08D-44A6-8616-0B1BF22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972-B6AB-459A-8E35-4B553A5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186-E6D4-4EAD-A987-BD7DF30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8A6-07FB-41C0-A044-2F9BE75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2EB4-E729-45DF-848C-39BB489553D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61800" y="2652480"/>
            <a:ext cx="861552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様式１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T20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口頭発表時、申告すべきＣＯＩ状態がある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ポスター発表に関連し、開示すべ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 I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関係にある企業などとし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①顧問：　　　　　　　　　　　　　　　　 な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②株保有・利益：　　　　　　　　　　　な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③特許使用料：　　　　　　　　　　　　な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④講演料：　　　　　　　　　　　　　　　な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⑤原稿料：　　　　　　　　　　　　  　　○○製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⑥受託研究・共同研究費：　　　　　○○製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⑦奨学寄付金：　 　　　　　　　　　　○○製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⑧寄付講座所属：　　　　　　　　　　あり（○○製薬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⑨贈答品などの報酬：　　　　 　　　な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"/>
          <p:cNvSpPr/>
          <p:nvPr/>
        </p:nvSpPr>
        <p:spPr>
          <a:xfrm>
            <a:off x="1073520" y="2095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CT2013</a:t>
            </a: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発表用ポスターの末尾に以下の文章にて</a:t>
            </a: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OI</a:t>
            </a: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304920" y="792000"/>
            <a:ext cx="8640720" cy="586764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形吹き出し 6"/>
          <p:cNvSpPr/>
          <p:nvPr/>
        </p:nvSpPr>
        <p:spPr>
          <a:xfrm>
            <a:off x="5616720" y="3733920"/>
            <a:ext cx="2503440" cy="1207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「あり」の場合は、企業名・団体名を記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金額の記載は不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36680" y="863640"/>
            <a:ext cx="8331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様式１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T20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口頭発表時、申告すべきＣＯＩ状態がない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ポスター発表に関連し、開示すべ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 I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関係に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企業などはあり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41280" y="3102120"/>
            <a:ext cx="8551800" cy="34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44520" y="1305000"/>
            <a:ext cx="8551800" cy="11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2:48:57Z</dcterms:created>
  <dc:creator>takagi</dc:creator>
  <dc:description/>
  <dc:language>en-US</dc:language>
  <cp:lastModifiedBy>takagi</cp:lastModifiedBy>
  <dcterms:modified xsi:type="dcterms:W3CDTF">2013-10-10T12:49:17Z</dcterms:modified>
  <cp:revision>1</cp:revision>
  <dc:subject/>
  <dc:title>スライド 1</dc:title>
</cp:coreProperties>
</file>