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737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8C51-0249-4426-BAF0-41022B5AC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4056-46FB-465B-AFDA-4CCBA8D96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3760" cy="37292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86D-2E3E-43DE-B426-8561DCF9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35C-4B8B-4525-B123-5CA17B71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8E9-6970-4773-84E5-6F96DAEB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CE41-BBAA-4369-90C6-A29421B1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7A5-2AB2-44AB-87E4-2309ECFC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4E6-C3D3-4BA3-885A-E934C685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331E-463E-465C-81CC-8408CA90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101-7939-4BD0-91E2-81B15DC4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E26-06DB-49EA-ABB4-C7F6FF97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A1D-5FEC-466A-9EAE-E74180A3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719-39EA-4076-AECC-9AB01865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445C-665A-4BC4-B78D-36A83D9D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DA9E-6A64-48FA-90C1-DD22FBE2EA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71040" y="3246480"/>
            <a:ext cx="7845480" cy="3124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COI Disclosure of First Author</a:t>
            </a:r>
            <a:r>
              <a:rPr b="1" lang="ja-JP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ultation fees: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　　　　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②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ock ownership/profit: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③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ent fees: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　　　　　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④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uneration for lecture: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⑤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uscript fees: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　○○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armaceutical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⑥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ust research/joint research funds: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　○○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armaceutical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holarship fund: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○○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armaceutical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⑧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filiation with Endowed Department: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yes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（○○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armaceuticals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⑨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ther remuneration such as gifts: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　　　　　　　　　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3"/>
          <p:cNvSpPr/>
          <p:nvPr/>
        </p:nvSpPr>
        <p:spPr>
          <a:xfrm>
            <a:off x="500040" y="241200"/>
            <a:ext cx="66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lose COI status at the end of the po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giving a presentation at CCT20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1-B      How to Disclose COI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正方形/長方形 6"/>
          <p:cNvSpPr/>
          <p:nvPr/>
        </p:nvSpPr>
        <p:spPr>
          <a:xfrm>
            <a:off x="534960" y="1828800"/>
            <a:ext cx="78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uthors have no financial conflicts of interest to disclose concerning the pres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正方形/長方形 7"/>
          <p:cNvSpPr/>
          <p:nvPr/>
        </p:nvSpPr>
        <p:spPr>
          <a:xfrm>
            <a:off x="609480" y="1859040"/>
            <a:ext cx="7894800" cy="88416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正方形/長方形 9"/>
          <p:cNvSpPr/>
          <p:nvPr/>
        </p:nvSpPr>
        <p:spPr>
          <a:xfrm>
            <a:off x="569880" y="2622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角丸四角形 8"/>
          <p:cNvSpPr/>
          <p:nvPr/>
        </p:nvSpPr>
        <p:spPr>
          <a:xfrm>
            <a:off x="5504040" y="3162240"/>
            <a:ext cx="3260520" cy="122400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f “yes”, give the name of company/organization. There is no need to disclose the amou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図 9" descr="CCT logo.jpg"/>
          <p:cNvPicPr/>
          <p:nvPr/>
        </p:nvPicPr>
        <p:blipFill>
          <a:blip r:embed="rId1"/>
          <a:stretch/>
        </p:blipFill>
        <p:spPr>
          <a:xfrm>
            <a:off x="6780240" y="208080"/>
            <a:ext cx="1108080" cy="156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358920" y="1657440"/>
            <a:ext cx="8551800" cy="11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358920" y="3095640"/>
            <a:ext cx="8551800" cy="31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7:39:07Z</dcterms:created>
  <dc:creator>Travis Alexander Yano</dc:creator>
  <dc:description/>
  <dc:language>en-US</dc:language>
  <cp:lastModifiedBy>takagi</cp:lastModifiedBy>
  <dcterms:modified xsi:type="dcterms:W3CDTF">2013-10-10T04:21:04Z</dcterms:modified>
  <cp:revision>104</cp:revision>
  <dc:subject/>
  <dc:title>PowerPoint Presentation</dc:title>
</cp:coreProperties>
</file>